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CCE-6DEE-4CCF-8DB8-9F3B5A1819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1840-6CBE-474A-BA51-7D97D7B1E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2B2-3679-458A-A70E-B985801A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3FD-1CBA-4F6D-83E4-B626B6F4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780-7921-4276-A813-7FC60E0C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806-496D-415B-A729-6FE0A33A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6D1D-921C-4C36-880C-FDB38A46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4EAF-77F2-441C-93F9-31F95268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CC5C-CE81-467B-820F-E7F80EF0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A9A6-A371-43DA-A1CF-97A91D9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D716-F000-48DE-BA60-1C4EE09F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C266-4353-4F89-9234-C1791254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B82A-FEA5-4A57-8634-EA08C52E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FBF-3010-437C-97E7-47D695AF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BD5A-671E-4C9F-AAFD-0F3810D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50CE-E19E-484C-A10C-7DFC5EEB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0A2E-0C4C-4BAA-902E-BFDC82D3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2A00-536A-4854-B4DA-D62ED4D7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3509-C612-4BCC-8559-C6918DA9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ECE0-A24C-49D2-A675-A8DD6CF3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AB18-FDB8-4558-8D6B-FBDE09ED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A5A7-06C2-4A02-BC3E-CAEEECAF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89C5-C484-4023-AD82-983A6A9C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5502-B619-4093-ACA6-402D9C70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E75-815B-4F2E-993E-E8EC0BEC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234D-47E2-4269-9817-3DD95E6B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2757-F6E2-4E76-9E46-F89C8388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6D5B-B129-4C22-983D-31D8D153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7F44-BDE7-4221-8A77-2CE54023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FC72-6D20-4792-BBA9-D2A38530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2E98-6ECF-4714-BA9A-863BB167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A14E-F847-4A35-9879-F4B2FD8F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064D-CF2D-461E-9C13-1277C242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C27FA-6489-44C0-96DB-9EB299BC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7282F-EB9A-4CE7-ACD8-1C1C6A31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6A6-3DC5-4DAD-AAD1-27168F4F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133A2-A21D-4C4A-A45A-6D7A5C02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FFE73-9DEA-4505-A286-083DE01E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5449-597D-4E93-A679-B79F0382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B1900-E37D-47B0-90FD-9BBBB4AB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3957-8DFE-4DC2-BF24-98FB9A25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9729-C65A-4E78-843C-58CA596E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543D-BFDC-46D0-B48C-C4B528FB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624B-6851-4B6F-AC93-AFA89619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4A50-D348-45AD-A617-B9D5EE73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164-5D6F-4A77-A13E-0D6C7A8C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AD2-D9CA-4630-B4C4-22A2C527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13A-044A-45BE-B8CE-EC4C60C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A64-09B9-49AB-A07E-BB32E1D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3A3-D7E0-4FD0-9910-6597B1FC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F9B7-3B6A-49E7-AB78-0342474802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587A-C453-474B-8EB2-A93D894C1CB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8145-C65F-40A1-B137-DD15FCBDAA2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C53-54F4-405C-BF0E-081CF04685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Continued…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-47520"/>
            <a:ext cx="7313760" cy="428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9dd9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160" y="457200"/>
            <a:ext cx="81500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________ (go) home if they don't finish their daily obligatio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just ______ (be) time to leave! We only just got here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looks just fine! There ______ (be) anything wrong with him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0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ys on the team _______ (smoke). The coach wouldn't let th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________ (you buy) a newspaper for me? I can't go out righ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y ______ (you sleep) last night? Did you watch a horror film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chaela _________ (leave) the meeting earlier, but she stayed to the e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hn must ______ (do) the test if she hopes to get the jo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52 </a:t>
            </a: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.Fill the spaces in the following sentences by using one of these forms:  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must, can't and needn't</a:t>
            </a: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 with 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the perfect infinitive</a:t>
            </a: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 of the verbs in brackets. 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(PAGE 153)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1. Did you hear me come in last night? ~ No, I______ (be) aslee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2. I wonder who broke the wineglass; it______ (be) the cat for she was out all 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3. You______ (help) him. (You helped him but he didn't need help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4. He______ (escape) by this window because it is bar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5. I ______ (give) £10. £5 would have been en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is wife ______ (be) very pleased about tha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6. A I told him to turn left and he immediately turned right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He______ (misunderstand) yo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69800" y="1066320"/>
            <a:ext cx="73134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7. A    We went to a restaurant and had a very good dinner for £3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You______ (have) a very good dinner if you only paid £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8.  A I saw Ann in the library yesterda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You______ (see) her; she is still abro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9.  You ______ (lend) him your map. He has one of his ow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10. A I spoke in English, very slowly. 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You______ (speak) slowly. He speaks English very fluent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11. He was found unconscious at the foot of the cliff. He______ (fall) 200 met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24192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160" y="457200"/>
            <a:ext cx="8150040" cy="54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nstantia"/>
              </a:rPr>
              <a:t>53.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swer the following questions using </a:t>
            </a:r>
            <a:r>
              <a:rPr b="1" i="1" lang="en-US" sz="2600" spc="-1" strike="noStrike">
                <a:solidFill>
                  <a:srgbClr val="cc0000"/>
                </a:solidFill>
                <a:latin typeface="Constantia"/>
              </a:rPr>
              <a:t>should hav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You didn't ask him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i="1" lang="en-US" sz="2800" spc="-1" strike="noStrike">
                <a:solidFill>
                  <a:srgbClr val="04617b"/>
                </a:solidFill>
                <a:latin typeface="Constantia"/>
              </a:rPr>
              <a:t>No, should I have asked him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You didn't bring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You didn't try to stop hi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You didn't tell h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You didn't invite Mar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You didn't expect to get sacked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48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Complete the conversation using the modal verbs in the box.</a:t>
            </a:r>
            <a:br>
              <a:rPr sz="3200"/>
            </a:b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can’t           can’t            ‘ll              ‘ll              must            might  shouldn’t         wouldn’t           won’t            would have    must have         could have         could have      needn’t hav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895120"/>
            <a:ext cx="8226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van, (1) ___________ Alexis be here by now? It’s gone four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eah, she (2) __________ got held up somewhe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ut (3) ___________ she have phoned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ll, you (4)  __________ thought s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8928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609120"/>
            <a:ext cx="7997760" cy="53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 mean, we’re only having this meeting for her benefit. If she doesn’t come soon, we (5)  ______ bother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Quite, though I (6) __________ think what (7) __________ held her up. I (8) __________ring her and see what’s going on. That’s funny, I (9) __________ find her number. I (10) _________ sworn I put it in my diary. It (11) _____________ be in here somewher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ll, If you ask me, she (12) __________ just be coming, anywa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nstanti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ang on. That (13) ________ just be her now. I (14) ___________ go and chec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0000"/>
                </a:solidFill>
                <a:latin typeface="Calibri"/>
              </a:rPr>
              <a:t>Modal Verbs +Perfect Infinitiv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we want to denote the past time we use </a:t>
            </a:r>
            <a:r>
              <a:rPr b="0" i="1" lang="en-US" sz="2400" spc="-1" strike="noStrike">
                <a:solidFill>
                  <a:srgbClr val="04617b"/>
                </a:solidFill>
                <a:latin typeface="Constantia"/>
              </a:rPr>
              <a:t>perfect infinitive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(have + past participle)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modals to expres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Constantia"/>
              </a:rPr>
              <a:t>DEDUCTION  (logical conclusio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He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must have bee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there yesterd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y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can’t/couldn’t have left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without saying goodbye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at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will have been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Jake. He said he’d be here at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y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may/ migh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have g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i="1" lang="en-US" sz="2000" spc="-1" strike="noStrike">
                <a:solidFill>
                  <a:srgbClr val="cc0000"/>
                </a:solidFill>
                <a:latin typeface="Constantia"/>
              </a:rPr>
              <a:t>) </a:t>
            </a:r>
            <a:r>
              <a:rPr b="1" i="1" lang="en-US" sz="2000" spc="-1" strike="noStrike">
                <a:solidFill>
                  <a:srgbClr val="cc0000"/>
                </a:solidFill>
                <a:latin typeface="Constantia"/>
              </a:rPr>
              <a:t>PAST REGRET</a:t>
            </a:r>
            <a:r>
              <a:rPr b="1" i="1" lang="en-US" sz="20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Constantia"/>
              </a:rPr>
              <a:t>(Advisability/ necessity in the pas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I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should have take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the umbrella with 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You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ought to have left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by n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i="1" lang="en-US" sz="2000" spc="-1" strike="noStrike">
                <a:solidFill>
                  <a:srgbClr val="cc0000"/>
                </a:solidFill>
                <a:latin typeface="Constantia"/>
              </a:rPr>
              <a:t>LACK OF NECESSITY IN THE P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You </a:t>
            </a:r>
            <a:r>
              <a:rPr b="0" i="1" lang="en-US" sz="2000" spc="-1" strike="noStrike" u="sng">
                <a:solidFill>
                  <a:srgbClr val="04617b"/>
                </a:solidFill>
                <a:uFillTx/>
                <a:latin typeface="Constantia"/>
              </a:rPr>
              <a:t>needn’t have washed up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-294120"/>
            <a:ext cx="73134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380520"/>
            <a:ext cx="83822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nstantia"/>
              </a:rPr>
              <a:t>MUST vs HAVE (GOT) T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nstantia"/>
              </a:rPr>
              <a:t>HAVE 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9dd9"/>
                </a:solidFill>
                <a:uFillTx/>
                <a:latin typeface="Constantia"/>
              </a:rPr>
              <a:t>Required by law, regulations, external authorities…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e.g. Children </a:t>
            </a:r>
            <a:r>
              <a:rPr b="0" i="1" lang="en-US" sz="2700" spc="-1" strike="noStrike">
                <a:solidFill>
                  <a:srgbClr val="04617b"/>
                </a:solidFill>
                <a:latin typeface="Constantia"/>
              </a:rPr>
              <a:t>have (got) to go</a:t>
            </a: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 to school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nstantia"/>
              </a:rPr>
              <a:t>MUS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9dd9"/>
                </a:solidFill>
                <a:uFillTx/>
                <a:latin typeface="Constantia"/>
              </a:rPr>
              <a:t>Personal opinion/ authority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e.g. I really </a:t>
            </a:r>
            <a:r>
              <a:rPr b="0" i="1" lang="en-US" sz="2700" spc="-1" strike="noStrike">
                <a:solidFill>
                  <a:srgbClr val="04617b"/>
                </a:solidFill>
                <a:latin typeface="Constantia"/>
              </a:rPr>
              <a:t>must</a:t>
            </a: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 stop eating sweet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09dd9"/>
                </a:solidFill>
                <a:uFillTx/>
                <a:latin typeface="Constantia"/>
              </a:rPr>
              <a:t>Used in public notices or documents expressing command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e.g. Cyclist </a:t>
            </a:r>
            <a:r>
              <a:rPr b="0" i="1" lang="en-US" sz="2700" spc="-1" strike="noStrike">
                <a:solidFill>
                  <a:srgbClr val="04617b"/>
                </a:solidFill>
                <a:latin typeface="Constantia"/>
              </a:rPr>
              <a:t>must</a:t>
            </a: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 dismount. Candidates </a:t>
            </a:r>
            <a:r>
              <a:rPr b="0" i="1" lang="en-US" sz="2700" spc="-1" strike="noStrike">
                <a:solidFill>
                  <a:srgbClr val="04617b"/>
                </a:solidFill>
                <a:latin typeface="Constantia"/>
              </a:rPr>
              <a:t>must</a:t>
            </a:r>
            <a:r>
              <a:rPr b="0" i="1" lang="en-US" sz="2700" spc="-1" strike="noStrike">
                <a:solidFill>
                  <a:srgbClr val="000000"/>
                </a:solidFill>
                <a:latin typeface="Constantia"/>
              </a:rPr>
              <a:t> choose five question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alibri"/>
              </a:rPr>
              <a:t>HAVE  TO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W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go.&gt;W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don’t 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go.&gt;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w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go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P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h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d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stay.&gt;Sh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didn’t 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stay.&gt;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she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stay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4617b"/>
                </a:solidFill>
                <a:latin typeface="Constantia"/>
              </a:rPr>
              <a:t>FUTURE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will 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work.&gt;I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won’t 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work.&gt;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Will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en-US" sz="2700" spc="-1" strike="noStrike">
                <a:solidFill>
                  <a:srgbClr val="04617b"/>
                </a:solidFill>
                <a:latin typeface="Constantia"/>
              </a:rPr>
              <a:t>have to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work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OTHER TENSES…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NEEDN’T HAVE DONE/ DIDN’T NEED TO D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e.g. I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eedn’t have prepared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 lunch. Never mind, we’ll leave it for tomorrow. </a:t>
            </a:r>
            <a:r>
              <a:rPr b="0" i="1" lang="en-US" sz="2800" spc="-1" strike="noStrike">
                <a:solidFill>
                  <a:srgbClr val="009dd9"/>
                </a:solidFill>
                <a:latin typeface="Constantia"/>
              </a:rPr>
              <a:t>( I prepared it, but it wasn’t necessary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They have already eaten at home, so I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idn’t need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o prepare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 lunch.</a:t>
            </a:r>
            <a:r>
              <a:rPr b="0" i="1" lang="en-US" sz="2800" spc="-1" strike="noStrike">
                <a:solidFill>
                  <a:srgbClr val="009dd9"/>
                </a:solidFill>
                <a:latin typeface="Constantia"/>
              </a:rPr>
              <a:t> ( I didn’t prepare it because it wasn’t necessary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-79200"/>
            <a:ext cx="73134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nstantia"/>
              </a:rPr>
              <a:t>could&gt;was/were able to&gt;managed t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4617b"/>
                </a:solidFill>
                <a:uFillTx/>
                <a:latin typeface="Constantia"/>
              </a:rPr>
              <a:t>PAST ABILITY (natural or learned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e.g. Jim </a:t>
            </a:r>
            <a:r>
              <a:rPr b="0" i="1" lang="en-US" sz="2500" spc="-1" strike="noStrike">
                <a:solidFill>
                  <a:srgbClr val="04617b"/>
                </a:solidFill>
                <a:latin typeface="Constantia"/>
              </a:rPr>
              <a:t>could/ was able to</a:t>
            </a: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Constantia"/>
              </a:rPr>
              <a:t>run</a:t>
            </a: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 fast when he was a boy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i="1" lang="en-US" sz="2500" spc="-1" strike="noStrike" u="sng">
                <a:solidFill>
                  <a:srgbClr val="04617b"/>
                </a:solidFill>
                <a:uFillTx/>
                <a:latin typeface="Constantia"/>
              </a:rPr>
              <a:t>SUCCESSFUL COMPLETION OF A SPECIFIC ACTION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e.g. They</a:t>
            </a:r>
            <a:r>
              <a:rPr b="0" i="1" lang="en-US" sz="2500" spc="-1" strike="noStrike">
                <a:solidFill>
                  <a:srgbClr val="04617b"/>
                </a:solidFill>
                <a:latin typeface="Constantia"/>
              </a:rPr>
              <a:t> were able to/ managed to </a:t>
            </a: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save the patient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Constantia"/>
              </a:rPr>
              <a:t>COULDN’T and WASN’T ABLE TO – usually interchangeabl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nstantia"/>
              </a:rPr>
              <a:t>e.g. She couldn’t/ wasn’t able to finish the job yesterday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132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47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In each of the sentences below delete the modal verbs that are incorrect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(p.150</a:t>
            </a:r>
            <a:r>
              <a:rPr b="1" lang="en-US" sz="3600" spc="-1" strike="noStrike">
                <a:solidFill>
                  <a:srgbClr val="cc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82700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 We ______ now, but we can if we wan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mustn't pay/don't have to pay/haven't got to pay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. I ______my laptop, so I left it at the offi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needn't take/didn't need to take/needn't have taken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. We ______, if we'd known he wasn't coming in toda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didn't need to wait/mustn't wait/needn't have waite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. When I was a student, I ______for hours on en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'd study/would have studied/used to study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. I ______quite left-wing, but I've become more conservativ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used to be/would be/must have bee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-294480"/>
            <a:ext cx="73134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520" y="380880"/>
            <a:ext cx="8302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6. She ______by now - it's after twelv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(should have left/'ll have left/won't have left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7. I took my driving test three times before I ______ pas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(could/was able to/managed to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49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Use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can, could</a:t>
            </a: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to be able to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to be allowed to/to be permitted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to 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ith the verbs in brackets. You may need a negative. Alternatives are possible in some cases</a:t>
            </a:r>
            <a:r>
              <a:rPr b="1" lang="en-US" sz="2400" spc="-1" strike="noStrike">
                <a:solidFill>
                  <a:srgbClr val="009dd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(PAGE 152)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ter _______ (do) the high jump when he was in schoo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_______ (pass) the exam even though I had practi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________ (I ask) you something? I hate to bother you but I really need help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may _______ (arrange) a trip. Do you like the idea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mployees ________ (go) on a trip next spring if it is not too expens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hn ________ (be) very funny when the mood was upon hi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1:48:36Z</dcterms:created>
  <dc:creator>http://eng.fon.rs</dc:creator>
  <dc:description/>
  <dc:language>en-US</dc:language>
  <cp:lastModifiedBy>Jelena Plecas</cp:lastModifiedBy>
  <dcterms:modified xsi:type="dcterms:W3CDTF">2009-03-09T21:42:57Z</dcterms:modified>
  <cp:revision>8</cp:revision>
  <dc:subject/>
  <dc:title>Modal Verbs</dc:title>
</cp:coreProperties>
</file>